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1E3-0F52-4273-AD56-EAEC3CB8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F01-296F-4E78-8750-DAB6E978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A18-F387-4C10-986C-D64F994A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3A5-BBD0-44A5-A7C2-D9D0F649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F9DA-1E86-4143-B12C-DFF78D36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F573-68D0-49D0-B9EF-4796A15C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EA3A-7C12-4E15-B8C3-FCFCE339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CB05-54F6-4409-894D-7CFC5F6A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C74D-CCB7-4B85-9572-69A33D99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F895-A366-49B1-97A5-D89F49AE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ECC1-567D-4376-93BF-928C97B9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F6D-1118-4B3F-ABC5-EF71A6F2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96EC-2985-4A1F-ACB2-AAB6F019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D007-5A06-4CEA-B473-A0BF3C72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C0CF-30BA-4841-A2EB-4CF91906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ED4F-5149-4C33-9EF8-C36D284B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4858-5B79-498E-888B-7992F838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ECF-9314-4BD0-9BFD-8EA37AB5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84C-965A-4675-B508-5F427770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CBF-ECE8-448C-ADEB-C287EE14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DFD-824E-4ED4-AA29-33D86773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CD0-D194-4287-A767-D91BD471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624-6BF4-4BFA-B2DE-98A40AB8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704-3D04-4ED8-8A1D-4491882E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48CE-95CB-4081-9DF7-FF3D49A6EE1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7996-636E-4FFE-9670-02B0B268CBD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1262160" y="476280"/>
            <a:ext cx="71974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«Расскажи мне, и я забуду,</a:t>
            </a:r>
            <a:r>
              <a:rPr b="0" lang="ru-RU" sz="5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покажи мне, и я запомню,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вовлеки меня, и я научусь».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итайская мудр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1386000" y="31104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Найдите квадрат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19280" y="981000"/>
            <a:ext cx="228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3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5y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0,9a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7020000" y="3678120"/>
                <a:ext cx="828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5"/>
              <p:cNvSpPr txBox="1"/>
              <p:nvPr/>
            </p:nvSpPr>
            <p:spPr>
              <a:xfrm>
                <a:off x="7020000" y="2316240"/>
                <a:ext cx="79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7020000" y="990720"/>
                <a:ext cx="576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Box 4"/>
          <p:cNvSpPr/>
          <p:nvPr/>
        </p:nvSpPr>
        <p:spPr>
          <a:xfrm>
            <a:off x="3882960" y="981000"/>
            <a:ext cx="2289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40a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2xy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z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едставьте в виде квадрата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076400" y="1609560"/>
            <a:ext cx="68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16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25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1,44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49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6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81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7"/>
              <p:cNvSpPr txBox="1"/>
              <p:nvPr/>
            </p:nvSpPr>
            <p:spPr>
              <a:xfrm>
                <a:off x="2124000" y="2637000"/>
                <a:ext cx="6778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очитайте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908000" y="1700280"/>
            <a:ext cx="25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(9 –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x + 4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7 + 3c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(2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3a – b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572000" y="1679400"/>
            <a:ext cx="27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1-18a+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+8x+16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9+42c +9c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9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–6ab+ b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1554120"/>
            <a:ext cx="7345440" cy="32799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292480" y="4419720"/>
            <a:ext cx="4572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166760" y="907920"/>
            <a:ext cx="73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очитать п.17, стр.67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Записать формулу разности квадратов и ее словесную формулировку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Разобрать примеры 2 и 3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иступить к самостоятельной работе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2" descr=""/>
          <p:cNvPicPr/>
          <p:nvPr/>
        </p:nvPicPr>
        <p:blipFill>
          <a:blip r:embed="rId1"/>
          <a:stretch/>
        </p:blipFill>
        <p:spPr>
          <a:xfrm>
            <a:off x="2305080" y="622440"/>
            <a:ext cx="4986360" cy="18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912960" y="2349360"/>
          <a:ext cx="7772400" cy="2886120"/>
        </p:xfrm>
        <a:graphic>
          <a:graphicData uri="http://schemas.openxmlformats.org/drawingml/2006/table">
            <a:tbl>
              <a:tblPr/>
              <a:tblGrid>
                <a:gridCol w="1930320"/>
                <a:gridCol w="547560"/>
                <a:gridCol w="549360"/>
                <a:gridCol w="547560"/>
                <a:gridCol w="547920"/>
                <a:gridCol w="722160"/>
                <a:gridCol w="722160"/>
                <a:gridCol w="722520"/>
                <a:gridCol w="642960"/>
                <a:gridCol w="839880"/>
              </a:tblGrid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gridSpan="4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3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4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5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21:01:16Z</dcterms:created>
  <dc:creator>Чернов Алексей</dc:creator>
  <dc:description/>
  <dc:language>en-US</dc:language>
  <cp:lastModifiedBy>Костя</cp:lastModifiedBy>
  <dcterms:modified xsi:type="dcterms:W3CDTF">2012-12-25T13:31:51Z</dcterms:modified>
  <cp:revision>32</cp:revision>
  <dc:subject/>
  <dc:title>Что такое деятельность ?</dc:title>
</cp:coreProperties>
</file>